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0DB-1D1F-4A53-96EF-0AE995BC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2EE-D968-4CC7-A3B0-20DF0564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8FE5-B98B-4A8A-9845-C8B0BCDD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400-5A6B-42D1-8251-AB1A7E5E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7AF-9999-4F07-AF29-33E5AD7D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D78-CB9D-4B3D-9D9A-C5249BD3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FB0-84B5-4AE8-AA66-778A723A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ABEF-3F6D-4E96-BF73-ADE0189B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133-D92F-4EAB-95D8-C682CF69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8B4-77F5-46BC-9604-03786387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45C-547F-4417-8680-B8D8317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C51-7A19-4D36-A697-26626205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A641-04DE-4CCD-BB7A-F816B37B3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q’s le ch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than Tumei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2514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2096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q’s le chateau has hiut le chambre, a gym, a indoor basketball court, a steam room, and a su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shaqs star island estate Shaquille ONeals House in Miami"/>
          <p:cNvPicPr/>
          <p:nvPr/>
        </p:nvPicPr>
        <p:blipFill>
          <a:blip r:embed="rId1"/>
          <a:stretch/>
        </p:blipFill>
        <p:spPr>
          <a:xfrm>
            <a:off x="0" y="3462480"/>
            <a:ext cx="434340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Bed ro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a26 star island15 Shaquille ONeals House in Miami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8:53Z</dcterms:created>
  <dc:creator>edill</dc:creator>
  <dc:description/>
  <dc:language>en-US</dc:language>
  <cp:lastModifiedBy>edill</cp:lastModifiedBy>
  <dcterms:modified xsi:type="dcterms:W3CDTF">2011-11-09T18:24:59Z</dcterms:modified>
  <cp:revision>3</cp:revision>
  <dc:subject/>
  <dc:title>LaBron James’s House</dc:title>
</cp:coreProperties>
</file>